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BA91-6C25-46FA-B21D-5CD6937F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EB0-4151-45D6-9D74-256B6F0A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64C-DA65-4F22-9993-0D21868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FEA-D6B2-4A15-9E2D-70B976D3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CB2-4139-4E73-88D2-586BFDAE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FE8-12A8-4448-BFB7-448C082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8D3-FD79-4E6E-930D-4A167197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11E-67A7-4A73-AF30-DB12A1DC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A58-8EE2-4F0E-8D1A-642B5BC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85F-F215-414E-8AC2-0391F15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E9F-1187-4A15-8FBD-AA2B3B49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4A2-47C2-47BC-BA3F-7E6C7463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D5B-86FC-4800-95F4-040CA5F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F984-1FC4-484C-9A39-BAACE150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0080" y="1752480"/>
            <a:ext cx="2514600" cy="176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1771560"/>
            <a:ext cx="2522520" cy="1762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905120" y="3600360"/>
            <a:ext cx="2522520" cy="1771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495680" y="3600360"/>
            <a:ext cx="2522520" cy="1752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90640"/>
            <a:ext cx="5410080" cy="0"/>
          </a:xfrm>
          <a:prstGeom prst="line">
            <a:avLst/>
          </a:prstGeom>
          <a:ln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a50021"/>
                </a:solidFill>
                <a:latin typeface="Arial Black"/>
              </a:rPr>
              <a:t>Jun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219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MTA Proposed 2005-2009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 Black"/>
              </a:rPr>
              <a:t>Capital Program Amend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5AC-AA86-4628-AE12-9A48514D8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   Inter-Ag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3664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stablishes MTA Planning Element for projects previously approved by the Board, to be funded from L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a Stadium Stations Investments ($32 mill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pan Zee Bridge EIS ($28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741-A4B8-4141-B5CC-5D263AE5BB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submitted for discussion and inp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amendment will be brought to Finance Committee and Board in J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ly will be submitted to CPRB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EC7-0884-4647-95E4-C23CD9217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82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Programs are regularly amended, annually or semi-annually, to reflect changes in project scopes, costs or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hanges occur within the original program enve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mprehensive 05-09 amendment approved by Board in  December 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PRB approved plan March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to the 05-09 Program were suspended during development of 2008-13 accelerated pro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bsence of Congestion Pricing, next program will follow original 10-14 perio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mendment reflects impacts of regional construction market conditions and new priorities since the last amend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this amendment were largely anticipated in 08-13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ncreases are offset by defer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deferred to next program will come at a higher cost than currently budg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day for consideration and comment; final amendment to be submitted at July Finance and Board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32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 of Proposed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E35-7C21-48E1-9855-3FC4C263AE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FFGA’s for SAS and ESA previously approved by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64 million for SAS and the remaining balance of $267million for ESA (since April ‘07 Board amend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funds from discontinued LaGuardia Airport Access project in 2000-2004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LGA-funded projects previously approved by Board (South Ferry, TZ Bridge Study, LMCCC and Shea station initi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s remaining LGA funds to NYCT ($80 million), LIRR ($16 million) and MNR ($11 million) to fund work that would otherwise have been in nex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RB approval required for these funding changes and program elements with increases greater than 10% since last CPRB approved plan (March ’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8229600" cy="5634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A6F-ADE4-42EC-AEA8-EE476ACEC5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1569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in Agency Priorities and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creases reflect higher project costs and new priorit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given to fund projects that maximize safe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offs to Fund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 projects that were likely to occur late in the program or that are experiencing delays; reprogramming early into next program minimizes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2005-2009 Capital Program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4D0-4AAE-4828-A38E-30079B880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City Tran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2.3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5720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2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57200" y="3886200"/>
          <a:ext cx="4038480" cy="27352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9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 in 05-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Division Cars                               164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nd Buses to Replace Artics          88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23 Stations             340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shing CBTC and WPR Signals  194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ver Viaduct                                   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Hale Depot                            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Growth in Prior Pla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57200" y="1479600"/>
            <a:ext cx="403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 in 05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 Div Growth Cars                       $200 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’l Paratransit                              33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od Control (LG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/Screens at 44 Dark Stations      47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Component Prog.             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523880"/>
            <a:ext cx="3886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2 Artics                                   $54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Station Rehabs                        279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 Plants                                   385                                 Tunnel Lighting                     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 Painting Projects         57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ver Line Signals                       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BL Interlocking                          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7th Overhaul Shop                  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Depot                             1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mer and Flatbush Depots          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Radio Project                         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L                                                 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Track Project                            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316-B845-4502-9CF9-363FDDAB9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Island Rai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4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57200" y="4267080"/>
          <a:ext cx="4038480" cy="2392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3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Fixation Track Repl,            $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T Fire &amp; Life Safe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Track Program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ylon Car Wash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maica Fit-Out (Phase 2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. of Way Repair Facility        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523880"/>
            <a:ext cx="43434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ushing/Flatbush Elevators (LGA) $10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Capacity Study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7 Hor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dge Pain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ens Village Elevators           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Queens Projects (LGA)        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Y Substa/Tower Reloc. Design  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40399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bylon to Patchogue Signals      $2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aica Interlocking Design              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auk Branch bridge rehabs         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way (Port Wash. Branch)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0th St. (Jamaica) bridge work        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y Interlocking Reconfig Design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 Sta. Facilities &amp; Yards work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2D3-D5A3-4067-ADFF-C8455F4A29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212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-North Rail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7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572000" y="914400"/>
          <a:ext cx="4121280" cy="380880"/>
        </p:xfrm>
        <a:graphic>
          <a:graphicData uri="http://schemas.openxmlformats.org/drawingml/2006/table">
            <a:tbl>
              <a:tblPr/>
              <a:tblGrid>
                <a:gridCol w="4121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43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on-Harmon Shop Master Plan $1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of Hudson Locomotives (4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-Life Remanufactur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$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landt Parking– CMAQ funded    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ughkeepsie Station Building         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wart Airport A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457200" y="1600200"/>
            <a:ext cx="4038480" cy="17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Employee Facilities Rehab.  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x Stas/Capacity Imprvmts (LGA)   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ral Hat Bldg Purch. (Beacon, NY)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23880"/>
            <a:ext cx="4040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-2 CSR (superseded by  M-8s)    $1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rytown Platform/Overpass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T Leaks Remedi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ton-Harmon/Peekskill Sta. work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con Line Undergrade bridges     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HL Undergrade bridge work (2)       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7D4-3FF6-4DA6-BB89-4E81DFD901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48320" y="1523880"/>
            <a:ext cx="415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nryHudson U/L TollPlaza decks $1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borough decks-Toll Plaza/Ramp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T Elect. System upgrad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Anch&amp;Tower Pro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gs Nk Orthotropic deck rehab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olations Enforcement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Automated Trf. 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Generation E-Zpass In-L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t Pkwy Ramp widening desi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294920"/>
            <a:ext cx="41767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s and Tu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14400"/>
          <a:ext cx="4038480" cy="380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Increases:  $14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72000" y="914400"/>
          <a:ext cx="4176720" cy="38088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Program Deferrals:  $13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40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57200" y="3733920"/>
          <a:ext cx="4038480" cy="2743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Incre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x-Whtstne Approach Decks       $4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gs Nk Concrete Deck Repl.       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razano Approach Deck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borough Bldg 104 rehab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T Ventilation rehabilitation        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ens Midtown building rehabs.   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57200" y="1523880"/>
            <a:ext cx="40384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w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razano Structural Steel Rprs.  $11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D64-DBCD-4600-8C0C-0E0EB0C3A8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2005-2009 Capital Program Amendment:                        Capital Construction Compa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371600"/>
            <a:ext cx="815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budget increases from $6.325 billion to $7.39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remaining $267 million from FFGA to ESA ($1.255 b added in April Board amend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 FFGA’s $764 million to 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cost growth identified in 2008-2013 Program is not reflected in amendment;  will be incorporated in next capita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incorporates two projects previously approved by the board, to be funded with $37.7 million from LG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uth Ferry Terminal ($27.3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MTA’s share of Lower Manhattan Construction Command Center ($10.4 mill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31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RB approval will be needed to add FFGA funds, which are critical to the progression of ESA in 200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962-FAD7-40F6-B572-B9264D358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04:26:21Z</dcterms:created>
  <dc:creator>MTA</dc:creator>
  <dc:description/>
  <dc:language>en-US</dc:language>
  <cp:lastModifiedBy>MTA</cp:lastModifiedBy>
  <dcterms:modified xsi:type="dcterms:W3CDTF">2008-06-23T14:23:28Z</dcterms:modified>
  <cp:revision>264</cp:revision>
  <dc:subject/>
  <dc:title>Sizing the Core Program</dc:title>
</cp:coreProperties>
</file>